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Aft>
                <a:spcPts val="3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Aft>
                <a:spcPts val="3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c2c84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Aft>
                <a:spcPts val="3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Aft>
                <a:spcPts val="3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0143-C05A-41B0-AC7C-C1F64688A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F1E8-C9DD-4397-9E10-73DEF466C38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Čuvar mesta za broj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7CFC-EF35-492D-BCAC-BE630DEDD8B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3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9840"/>
                <a:tab algn="r" pos="86994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14C6041F-358B-4601-81EC-CC6E9875B930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13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9840"/>
                <a:tab algn="r" pos="86994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F9941A24-1146-49CC-AFD8-744405FFFE8B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" name="Picture 10" descr=""/>
          <p:cNvPicPr/>
          <p:nvPr/>
        </p:nvPicPr>
        <p:blipFill>
          <a:blip r:embed="rId2"/>
          <a:stretch/>
        </p:blipFill>
        <p:spPr>
          <a:xfrm flipH="1">
            <a:off x="7596000" y="333360"/>
            <a:ext cx="89676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3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9840"/>
                <a:tab algn="r" pos="86994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7D7A93E1-1C5F-4BD0-BBA2-DDAC4FA543D5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Picture 10" descr=""/>
          <p:cNvPicPr/>
          <p:nvPr/>
        </p:nvPicPr>
        <p:blipFill>
          <a:blip r:embed="rId2"/>
          <a:stretch/>
        </p:blipFill>
        <p:spPr>
          <a:xfrm flipH="1">
            <a:off x="7885080" y="189000"/>
            <a:ext cx="89712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3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9840"/>
                <a:tab algn="r" pos="86994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D19A402F-4EA6-40CF-8BC8-A789D324E418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10" descr="C:\Users\skevin\Desktop\sanja edukacija vr banja\13234173252678_medicinski_fax_logo_za_sajt.jpg"/>
          <p:cNvPicPr/>
          <p:nvPr/>
        </p:nvPicPr>
        <p:blipFill>
          <a:blip r:embed="rId2"/>
          <a:srcRect l="33153" t="14477" r="33707" b="0"/>
          <a:stretch/>
        </p:blipFill>
        <p:spPr>
          <a:xfrm>
            <a:off x="7885080" y="189000"/>
            <a:ext cx="8622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3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9840"/>
                <a:tab algn="r" pos="86994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C6A035F0-C5E5-4006-9A48-457B8A79020B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Straight Connector 2"/>
          <p:cNvSpPr/>
          <p:nvPr/>
        </p:nvSpPr>
        <p:spPr>
          <a:xfrm>
            <a:off x="457200" y="1341360"/>
            <a:ext cx="8143920" cy="0"/>
          </a:xfrm>
          <a:prstGeom prst="line">
            <a:avLst/>
          </a:prstGeom>
          <a:ln w="38160">
            <a:solidFill>
              <a:srgbClr val="f000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10" descr=""/>
          <p:cNvPicPr/>
          <p:nvPr/>
        </p:nvPicPr>
        <p:blipFill>
          <a:blip r:embed="rId2"/>
          <a:stretch/>
        </p:blipFill>
        <p:spPr>
          <a:xfrm flipH="1">
            <a:off x="7704000" y="120600"/>
            <a:ext cx="89712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3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9840"/>
                <a:tab algn="r" pos="86994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96F75636-82F7-4666-B79E-878110E6C0F4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Picture 10" descr=""/>
          <p:cNvPicPr/>
          <p:nvPr/>
        </p:nvPicPr>
        <p:blipFill>
          <a:blip r:embed="rId2"/>
          <a:stretch/>
        </p:blipFill>
        <p:spPr>
          <a:xfrm flipH="1">
            <a:off x="7956360" y="115920"/>
            <a:ext cx="89676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152280" y="6248520"/>
            <a:ext cx="3276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6" name="Text Box 8"/>
          <p:cNvGrpSpPr/>
          <p:nvPr/>
        </p:nvGrpSpPr>
        <p:grpSpPr>
          <a:xfrm>
            <a:off x="-122400" y="6095880"/>
            <a:ext cx="9259920" cy="549360"/>
            <a:chOff x="-122400" y="6095880"/>
            <a:chExt cx="9259920" cy="549360"/>
          </a:xfrm>
        </p:grpSpPr>
        <p:pic>
          <p:nvPicPr>
            <p:cNvPr id="237" name="Text Box 8" descr=""/>
            <p:cNvPicPr/>
            <p:nvPr/>
          </p:nvPicPr>
          <p:blipFill>
            <a:blip r:embed="rId1"/>
            <a:stretch/>
          </p:blipFill>
          <p:spPr>
            <a:xfrm>
              <a:off x="-122400" y="6095880"/>
              <a:ext cx="925992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-63360" y="6137280"/>
              <a:ext cx="91440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7280" indent="-287280" algn="ctr">
                <a:lnSpc>
                  <a:spcPct val="120000"/>
                </a:lnSpc>
                <a:spcBef>
                  <a:spcPts val="1125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Доц. Др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 T.</a:t>
              </a: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Лукови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9" name="TextBox 1"/>
          <p:cNvGrpSpPr/>
          <p:nvPr/>
        </p:nvGrpSpPr>
        <p:grpSpPr>
          <a:xfrm>
            <a:off x="-19080" y="3968640"/>
            <a:ext cx="9259920" cy="1322640"/>
            <a:chOff x="-19080" y="3968640"/>
            <a:chExt cx="9259920" cy="1322640"/>
          </a:xfrm>
        </p:grpSpPr>
        <p:pic>
          <p:nvPicPr>
            <p:cNvPr id="240" name="TextBox 1" descr=""/>
            <p:cNvPicPr/>
            <p:nvPr/>
          </p:nvPicPr>
          <p:blipFill>
            <a:blip r:embed="rId2"/>
            <a:stretch/>
          </p:blipFill>
          <p:spPr>
            <a:xfrm>
              <a:off x="-19080" y="3968640"/>
              <a:ext cx="9259920" cy="13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4280" y="4005360"/>
              <a:ext cx="914400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Verdana"/>
                </a:rPr>
                <a:t>МАГНЕТОТЕРАПИЈА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2" name="Rectangle 1"/>
          <p:cNvSpPr/>
          <p:nvPr/>
        </p:nvSpPr>
        <p:spPr>
          <a:xfrm>
            <a:off x="152280" y="0"/>
            <a:ext cx="8928360" cy="22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451"/>
              </a:spcAft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2340000" y="4437000"/>
            <a:ext cx="2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451"/>
              </a:spcAft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4" name="TextBox 1"/>
          <p:cNvGrpSpPr/>
          <p:nvPr/>
        </p:nvGrpSpPr>
        <p:grpSpPr>
          <a:xfrm>
            <a:off x="-66600" y="2255760"/>
            <a:ext cx="9259920" cy="889200"/>
            <a:chOff x="-66600" y="2255760"/>
            <a:chExt cx="9259920" cy="889200"/>
          </a:xfrm>
        </p:grpSpPr>
        <p:pic>
          <p:nvPicPr>
            <p:cNvPr id="245" name="TextBox 1" descr=""/>
            <p:cNvPicPr/>
            <p:nvPr/>
          </p:nvPicPr>
          <p:blipFill>
            <a:blip r:embed="rId3"/>
            <a:stretch/>
          </p:blipFill>
          <p:spPr>
            <a:xfrm>
              <a:off x="-66600" y="2255760"/>
              <a:ext cx="9259920" cy="8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-6480" y="2289240"/>
              <a:ext cx="9144000" cy="76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Универзитет у Кр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гујевцу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ФАКУЛТЕТ МЕДИЦИНСКИХ НАУК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47" name="Picture 10" descr=""/>
          <p:cNvPicPr/>
          <p:nvPr/>
        </p:nvPicPr>
        <p:blipFill>
          <a:blip r:embed="rId4"/>
          <a:stretch/>
        </p:blipFill>
        <p:spPr>
          <a:xfrm>
            <a:off x="3780000" y="222120"/>
            <a:ext cx="1584000" cy="205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ПРИМАРНА ДЕЈСТВА МП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Захваљући присуству феромагнетних супстанци МП изазива биоелектрична гибања - кретања јона - хиперполаризацију на северном, а хипополаризацију на јужном пол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периодична пропустљивост ћелијске мембране без утрошка енергиј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пораст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pO2 i do 200%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пораст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AT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СЕКУНДАРНА БИОЛОШКА ДЕЈСТВА МП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азодилатациј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мањење вискозитета крви (антитромботички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бољшање реолошких особина крв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нтиедематоз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нтиинфламатор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рофич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мулациј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калуса; зарастање ра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налгетс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едациј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бољшање имуните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тимулација ендокриних функциј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обољшање адаптационих ососби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АПАРАТИ ЗА МАГНЕТОТЕРАПИЈУ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парат за МТ се састоји и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управљачке јединице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генератора електричних импулса) и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соленоида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(кроз чије навоје протиче струја)- у облику плоча, антена, обруча, душека, подлошки, манжетни, специјалне столиц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c2c84"/>
                </a:solidFill>
                <a:latin typeface="Times New Roman"/>
                <a:ea typeface="Times New Roman"/>
              </a:rPr>
              <a:t>Апаратурни</a:t>
            </a:r>
            <a:r>
              <a:rPr b="0" lang="en-US" sz="4400" spc="-1" strike="noStrike">
                <a:solidFill>
                  <a:srgbClr val="0c2c84"/>
                </a:solidFill>
                <a:latin typeface="Times New Roman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0c2c84"/>
                </a:solidFill>
                <a:latin typeface="Times New Roman"/>
                <a:ea typeface="Times New Roman"/>
              </a:rPr>
              <a:t>извор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pic>
        <p:nvPicPr>
          <p:cNvPr id="270" name="Content Placeholder 3" descr="sl"/>
          <p:cNvPicPr/>
          <p:nvPr/>
        </p:nvPicPr>
        <p:blipFill>
          <a:blip r:embed="rId1"/>
          <a:stretch/>
        </p:blipFill>
        <p:spPr>
          <a:xfrm>
            <a:off x="2666880" y="2057400"/>
            <a:ext cx="553428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c2c84"/>
                </a:solidFill>
                <a:latin typeface="Times New Roman"/>
                <a:ea typeface="Times New Roman"/>
              </a:rPr>
              <a:t>Уређај</a:t>
            </a:r>
            <a:r>
              <a:rPr b="0" lang="en-US" sz="4400" spc="-1" strike="noStrike">
                <a:solidFill>
                  <a:srgbClr val="0c2c84"/>
                </a:solidFill>
                <a:latin typeface="Times New Roman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0c2c84"/>
                </a:solidFill>
                <a:latin typeface="Times New Roman"/>
                <a:ea typeface="Times New Roman"/>
              </a:rPr>
              <a:t>са</a:t>
            </a:r>
            <a:r>
              <a:rPr b="0" lang="en-US" sz="4400" spc="-1" strike="noStrike">
                <a:solidFill>
                  <a:srgbClr val="0c2c84"/>
                </a:solidFill>
                <a:latin typeface="Times New Roman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0c2c84"/>
                </a:solidFill>
                <a:latin typeface="Times New Roman"/>
                <a:ea typeface="Times New Roman"/>
              </a:rPr>
              <a:t>соленоидом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pic>
        <p:nvPicPr>
          <p:cNvPr id="272" name="Content Placeholder 3" descr="sl"/>
          <p:cNvPicPr/>
          <p:nvPr/>
        </p:nvPicPr>
        <p:blipFill>
          <a:blip r:embed="rId1"/>
          <a:stretch/>
        </p:blipFill>
        <p:spPr>
          <a:xfrm>
            <a:off x="2209680" y="1828800"/>
            <a:ext cx="4419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ТЕХНИКА ПРИМЕНЕ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Локална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на оболели део т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ефлексна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на вегетативне ганглиј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Општа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у пољу деловања цело тело, сем глав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ДОЗИРАЊЕ МП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Јачина поља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(m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Фреквенција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(Hz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избор зависи од индикациј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злазна снага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(mW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реме: основна јединица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30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Број дана: неограниче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ИНДИКАЦИОНО ПОДРУЧЈЕ У ЗАВИСНОСТИ ОД ФРЕКВЕНЦИЈЕ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457200" y="1484280"/>
          <a:ext cx="8143920" cy="5089680"/>
        </p:xfrm>
        <a:graphic>
          <a:graphicData uri="http://schemas.openxmlformats.org/drawingml/2006/table">
            <a:tbl>
              <a:tblPr/>
              <a:tblGrid>
                <a:gridCol w="2170080"/>
                <a:gridCol w="597384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ФРЕКВЕН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000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ИНДИК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000c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b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е врсте уп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bc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ронхитис; Поремећаји спава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 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b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ипертенз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bc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 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игрена; Слаба циркул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 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b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инеколошке тегоб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bc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 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растање р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7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 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b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генеративни реуматизам; Ванзглобни реуматиз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bc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 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сттрауматска ста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7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 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b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спорено зарастање прелом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bc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0 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иозитис, тендинитис, миалг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7e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0 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b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имфед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cbcc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0 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сттраум. стања; Дегенер.реуматиз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ИНДИКАЦИЈЕ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80" name="Čuvar mesta za tekst 3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Запаљењ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Čuvar mesta za sadržaj 4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Инфекције уринарног тракт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astrit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epatit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ndovaginit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stheomyelit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Реуматска запаљенска стањ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statit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Čuvar mesta za tekst 5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етње крвото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Čuvar mesta za sadržaj 6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ериферне сметње крвото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Ra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nau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g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lebothrombo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ИНДИКАЦИЈЕ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85" name="Čuvar mesta za tekst 8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егресивне сметњ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ondylo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xartro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stheoporo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cheurman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lcus crur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Лезије PM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yopathi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Лезије CM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Čuvar mesta za tekst 9"/>
          <p:cNvSpPr/>
          <p:nvPr/>
        </p:nvSpPr>
        <p:spPr>
          <a:xfrm>
            <a:off x="4500720" y="1535040"/>
            <a:ext cx="4643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осттрауматска стањ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вреде меких тки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шчашење зглобо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еломи костиј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сттрауматски ед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сттрауматски болов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Verdana"/>
              </a:rPr>
              <a:t>ИСТОРИЈАТ ПРИМЕНЕ МП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Грци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ровинција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agnezija; Tales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Hipokrat, Plat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Египћани, Кинези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 Римљани, Византијци, Арапи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XVII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ек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Gilbert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 магнету, магнетним телима и о великом магнету Земљи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esm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XVIII vek Glaisaul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ви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ештачки магне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Le Noble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 представио медицинском свет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1962. Sabovljev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значај МП у диференцијацији живо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1968. Presman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ајбитнија је информациј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1974. Dubrov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епознавање геомагн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мп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КОНТРАИНДИКАЦИЈЕ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пш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рудноћ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Јувенилни диjабете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Уграђен pace-mak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ктивна TB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иновијална псеудоартро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Крварење ГИ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ПРЕДНОСТИ МАГНЕТОТЕРАПИЈЕ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осредна примена скраћује време лечењ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ројне индикациј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ло контраиндикациј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нергиза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контактна метода (одећа, гипс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термична (метал, кеса с ледом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Једном антеном два болесн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Verdana"/>
              </a:rPr>
              <a:t>НЕДОСТАЦИ МАГНЕТОТЕРАПИЈЕ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мериза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достатак литератур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овек нема рецепторе за М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лаже дејство – дужи третма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личити ефекти код болесн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ГЛАВНИ МЕДИЦИНСКИ УЧИНЦИ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2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егенерациј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нажна и дуготрајна аналгезиј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нтиинфламатор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нтиедемaтозн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КОНТРАИНДИКАЦИЈЕ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пш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еца - предео епифиза костију у развој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едео о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едео тиреоидее, гонада и других ендокр.ж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рудноћа (трбух и крст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ce maker (грудни кош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ромбозе и тромбофлебитис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Епилепсија (глав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0000"/>
                </a:solidFill>
                <a:latin typeface="Verdana"/>
                <a:ea typeface="Verdana"/>
              </a:rPr>
              <a:t>МЕРЕ</a:t>
            </a:r>
            <a:r>
              <a:rPr b="0" lang="sr-Latn-CS" sz="4400" spc="-1" strike="noStrike">
                <a:solidFill>
                  <a:srgbClr val="ff0000"/>
                </a:solidFill>
                <a:latin typeface="Verdana"/>
                <a:ea typeface="Verdana"/>
              </a:rPr>
              <a:t> </a:t>
            </a:r>
            <a:r>
              <a:rPr b="0" lang="sr-CS" sz="4400" spc="-1" strike="noStrike">
                <a:solidFill>
                  <a:srgbClr val="ff0000"/>
                </a:solidFill>
                <a:latin typeface="Verdana"/>
                <a:ea typeface="Verdana"/>
              </a:rPr>
              <a:t>ОПРЕЗА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Забрањује се радиотерапиј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Особе са металним имплататима не треба да бораве у близини јаких М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апликовати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над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каротидним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синус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опрез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код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нефролитијаз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уролитијаз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c2c84"/>
                </a:solidFill>
                <a:latin typeface="Verdana"/>
              </a:rPr>
              <a:t>Пропратне појаве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Седациј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Блага узнемиренос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Поремећај биоритм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c2c84"/>
                </a:solidFill>
                <a:latin typeface="Verdana"/>
              </a:rPr>
              <a:t>,,Прозорско понашање живих бића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-4С(мржњење морске воде) до50С (коагулација беланчевина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pH,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концентрација гасова,влажност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МП зависи од 4 независна факт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Проналажење ,,прозора” за терапијске и избегавање штетних ефека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Verdana"/>
              </a:rPr>
              <a:t>ИСТОРИЈАТ МАГНЕТОТЕРАПИЈЕ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рем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Јапану после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св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мунија, земље бившег ССС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ћина европских земаља 1960-1985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САД 80-тих година апарати за терапијске сврх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Словенији у Марибору први пут у Ф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989. на Медицинским факултети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c2c84"/>
                </a:solidFill>
                <a:latin typeface="Verdana"/>
              </a:rPr>
              <a:t>Електромагнетна</a:t>
            </a:r>
            <a:r>
              <a:rPr b="0" lang="en-US" sz="4400" spc="-1" strike="noStrike">
                <a:solidFill>
                  <a:srgbClr val="0c2c84"/>
                </a:solidFill>
                <a:latin typeface="Verdana"/>
              </a:rPr>
              <a:t> </a:t>
            </a:r>
            <a:r>
              <a:rPr b="0" lang="sr-CS" sz="4400" spc="-1" strike="noStrike">
                <a:solidFill>
                  <a:srgbClr val="0c2c84"/>
                </a:solidFill>
                <a:latin typeface="Verdana"/>
              </a:rPr>
              <a:t>поља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Новиј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научн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сазнањ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јасн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указуј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д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с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живо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Земљ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развија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под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утицаје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многи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природни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фактор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међ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којим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значајн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мест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заузимај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електричн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магнетн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пољ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Електромагнетн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пољ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кој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на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окружуј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имај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природн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порекло:</a:t>
            </a:r>
            <a:r>
              <a:rPr b="1" lang="sr-CS" sz="2400" spc="-1" strike="noStrike">
                <a:solidFill>
                  <a:srgbClr val="cc0066"/>
                </a:solidFill>
                <a:latin typeface="Verdana"/>
              </a:rPr>
              <a:t>магнетно</a:t>
            </a: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cc0066"/>
                </a:solidFill>
                <a:latin typeface="Verdana"/>
              </a:rPr>
              <a:t>поље</a:t>
            </a: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cc0066"/>
                </a:solidFill>
                <a:latin typeface="Verdana"/>
              </a:rPr>
              <a:t>Земље</a:t>
            </a: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, </a:t>
            </a:r>
            <a:r>
              <a:rPr b="1" lang="sr-CS" sz="2400" spc="-1" strike="noStrike">
                <a:solidFill>
                  <a:srgbClr val="cc0066"/>
                </a:solidFill>
                <a:latin typeface="Verdana"/>
              </a:rPr>
              <a:t>међупланетарно</a:t>
            </a: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cc0066"/>
                </a:solidFill>
                <a:latin typeface="Verdana"/>
              </a:rPr>
              <a:t>магнетно</a:t>
            </a: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cc0066"/>
                </a:solidFill>
                <a:latin typeface="Verdana"/>
              </a:rPr>
              <a:t>поље</a:t>
            </a: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, </a:t>
            </a:r>
            <a:r>
              <a:rPr b="1" lang="sr-CS" sz="2400" spc="-1" strike="noStrike">
                <a:solidFill>
                  <a:srgbClr val="cc0066"/>
                </a:solidFill>
                <a:latin typeface="Verdana"/>
              </a:rPr>
              <a:t>космичко</a:t>
            </a: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cc0066"/>
                </a:solidFill>
                <a:latin typeface="Verdana"/>
              </a:rPr>
              <a:t>магнетно</a:t>
            </a: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cc0066"/>
                </a:solidFill>
                <a:latin typeface="Verdana"/>
              </a:rPr>
              <a:t>поље</a:t>
            </a:r>
            <a:r>
              <a:rPr b="1" lang="en-US" sz="2400" spc="-1" strike="noStrike">
                <a:solidFill>
                  <a:srgbClr val="cc0066"/>
                </a:solidFill>
                <a:latin typeface="Verdana"/>
              </a:rPr>
              <a:t>)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Развој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техник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услови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ј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низ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вештачки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извор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магнетни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пољ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кој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такођ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делуј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организа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187280" y="713880"/>
            <a:ext cx="777240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Мног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америчк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немачк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кинеск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руск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британск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страживањ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с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доказал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д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довољно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јак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терапеутск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магнет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мог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Побољшати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циркулациј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стимулирајућ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црвен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крвн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зрнц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д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доносе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више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кисеоник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храњивих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материј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органим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мишићим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Значајно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подићи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целокупну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енергију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тел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тако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што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ојачавај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циркулациј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омаж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елиминисањ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отров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тел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чиме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смањује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крвн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ритисак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улс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Побољшати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дубок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дугачак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релаксирајући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сан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магнетотерапиј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враћ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ниво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мелатонин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хормон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спавањ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свој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оптималн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ниво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Ојачати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имунолошки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систем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јер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ојачавај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роток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кисеоник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храњивих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материја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балансирај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хормоне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"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одмарају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"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срце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Смањити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или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потпуно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уклонити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бол</a:t>
            </a:r>
            <a:r>
              <a:rPr b="1" lang="sr-Latn-CS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Дефиниција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Магнетотерапија је примена константног и променњивог магнетног поља у циљу превенције,лечења и рехабилитациј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еинвазивна,сигурна и ефикасна метод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МП постоји око проводника са струјом и око сталних магне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Бира се поље таквих карактеристика (врста,начин и доза) које ће интерферирати са МП јединк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Биолошко ЕМП 10-14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Геомагнетно поље 47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T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;магнетне бур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Дијагностичка примена магне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Примена магнета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pic>
        <p:nvPicPr>
          <p:cNvPr id="258" name="Picture 8" descr="Magnetoterapija"/>
          <p:cNvPicPr/>
          <p:nvPr/>
        </p:nvPicPr>
        <p:blipFill>
          <a:blip r:embed="rId1"/>
          <a:stretch/>
        </p:blipFill>
        <p:spPr>
          <a:xfrm>
            <a:off x="1643040" y="1500120"/>
            <a:ext cx="5929200" cy="5072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Verdana"/>
              </a:rPr>
              <a:t>ИЗВОРИ МАГНЕТОТЕРАПИЈЕ</a:t>
            </a:r>
            <a:endParaRPr b="0" lang="en-US" sz="28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483920"/>
            <a:ext cx="8143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а константног МП (безапаратурни,стални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агнетофор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тковичасти магнет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војниц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а електромагнетног поља (апаратурни) које настаје око проводника када кроз њега тече струј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искофреквентна 2-100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z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LEC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исокофреквентна 100- 640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z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LF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Хиперполаризациј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ћелиј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нормализацијом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мембранског</a:t>
            </a:r>
            <a:r>
              <a:rPr b="0" lang="sr-Latn-C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пот</a:t>
            </a:r>
            <a:br>
              <a:rPr sz="4000"/>
            </a:br>
            <a:endParaRPr b="0" lang="en-US" sz="4000" spc="-1" strike="noStrike">
              <a:solidFill>
                <a:srgbClr val="0c2c84"/>
              </a:solidFill>
              <a:latin typeface="Verdana"/>
            </a:endParaRPr>
          </a:p>
        </p:txBody>
      </p:sp>
      <p:pic>
        <p:nvPicPr>
          <p:cNvPr id="262" name="Picture 4" descr="hiperpolarizacija"/>
          <p:cNvPicPr/>
          <p:nvPr/>
        </p:nvPicPr>
        <p:blipFill>
          <a:blip r:embed="rId1"/>
          <a:stretch/>
        </p:blipFill>
        <p:spPr>
          <a:xfrm>
            <a:off x="1066680" y="2057400"/>
            <a:ext cx="7467840" cy="4343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5T21:33:56Z</dcterms:created>
  <dc:creator>+++</dc:creator>
  <dc:description/>
  <dc:language>en-US</dc:language>
  <cp:lastModifiedBy>Info</cp:lastModifiedBy>
  <dcterms:modified xsi:type="dcterms:W3CDTF">2016-10-09T20:52:44Z</dcterms:modified>
  <cp:revision>662</cp:revision>
  <dc:subject/>
  <dc:title>PowerPoint-Präsentation</dc:title>
</cp:coreProperties>
</file>